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5A2-075E-4D45-BE8B-11546DE0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C36-70F5-4492-8416-C133B41C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3F7-ED52-4032-8CF0-F20FAAB7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A5A-4911-4D9C-B7FD-47000AEF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4D7-9D5C-4103-8D94-7CE65E0E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ED7-5DE6-4A2C-894E-2183982F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B1A-CC40-47D5-B17F-F0578555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FFD-F672-4A85-8D5B-B1434F29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CEE-0143-496E-8312-645E84F9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D1E-6FAB-444E-86C2-BC633FEA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E6B-0BCF-4E6E-B953-0C0CD7F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E81-E85F-4A54-8957-0EA63AD5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181F-36AA-47EE-861D-4277BF7C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0"/>
            <a:ext cx="8532720" cy="6858000"/>
          </a:xfrm>
          <a:custGeom>
            <a:avLst/>
            <a:gdLst>
              <a:gd name="textAreaLeft" fmla="*/ 1947960 w 8532720"/>
              <a:gd name="textAreaRight" fmla="*/ 6584760 w 8532720"/>
              <a:gd name="textAreaTop" fmla="*/ 1565640 h 6858000"/>
              <a:gd name="textAreaBottom" fmla="*/ 5292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96000"/>
            </a:blip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3280" y="1628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Республика</a:t>
            </a:r>
            <a:endParaRPr b="0" lang="en-US" sz="1800" spc="1" strike="noStrike">
              <a:ln w="25560">
                <a:solidFill>
                  <a:srgbClr val="0066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2637000"/>
            <a:ext cx="47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Саха (Якутия)</a:t>
            </a:r>
            <a:endParaRPr b="0" lang="en-US" sz="4000" spc="1" strike="noStrike">
              <a:ln w="255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852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3573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42900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78136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5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3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5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езные ископаемые: алмазы, золото, олово, слюда, вольфрам, полиметаллические и железные руды, уголь, природный газ, минеральные источник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величине разведанных запасов алмазов (45 %) Республика Саха заняла первое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еданные запасы угля в Якутии (9617,8 млн. т) могут обеспечить добычу в объеме 150 млн. т в год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5113440" cy="266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0580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16360" y="189000"/>
            <a:ext cx="316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сел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836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еление Якутии составляет 950,7 тыс. чел. Удельный вес городского населения – 64,2 %, плотность населения - 0,3 чел./км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624720" cy="289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5848560" cy="2533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7950240" cy="3773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48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49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348000" y="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Якут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24320" cy="280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06560" y="726480"/>
            <a:ext cx="633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нное население Якутии (365 тыс. человек), Якутский язык относится к северо-восточной ветви тюркской группы алтайских языков. Верующие — правосла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куты сформировались в результате поглощения южными тюркоязычными переселенцами местных племен среднего течения Лены. В расовом отношении якуты являются представителями центрально азиатского антропологического типа североазиатской расы. В традиционном хозяйстве и материальной культуре якутов много черт, сходных с культурой скотоводов Центральной Азии. Включение якутов в состав Русского государства (1620-30-е гг.) ускорило их социально-экономическое и культурное развитие. В 17-19 веках главным занятием якутов было, скотоводство со второй половины 19 века значительная часть стала заниматься земледелием; охота и рыболовство играли подсобную роль. Основным типом жилища был бревенчатый балаган (юрта), летним — разборная ураса. Одежду шили из шкур и меха. Во второй половине 18 века большая часть якутов была обращена в христианство, однако сохранялось и шам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87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88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1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457200"/>
            <a:ext cx="763272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050920" y="26028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омышленность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981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отрасль промышленности — горнодобывающая: алмазы («Алмазы России-Саха» — Алроса), золото («Золото Якутии», «Алданзолото»), олово («Депутатсколово»), слюда, сурьма, уголь («Якутуголь»). Развиты добыча газа («Якутгазпром»), лесная и деревообрабатывающая промышленность («Якутлес»), производство стройматериало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энергетики — Вилюйская ГЭС, Чульманская, Якутская ГР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212640"/>
            <a:ext cx="82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еспублике открыта Ленно-Вилюйская нефтегазоносная провинция, имеющая большие персп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005360"/>
            <a:ext cx="88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числу перспективных проектов развития топливно-энергетического комплекса Республики Саха следует отнести разработку Чаяндинского месторождения природного газа с передачей его в намечаемый к строительству в будущем магистральный газопровод Восточная Сибирь-Китай-Южная Корея, а так же строительство каскада Электростанций на реках Учур и Тимптон суммарной мощностью 5 млн. кВт 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848720" cy="5150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2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3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6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7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84360" y="33336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Сельское хозяйство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125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ое хозяйство специализируется на животноводстве (мясомолочное скотоводство, мясо-табунное коневодство), на севере — оленеводство. Развиты звероводство, охотничий и рыбный промыслы. Посевы зерновых (пшеница и др.) и кормовых 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7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 зерна, сои, картофеля и овощей, расположены преимущественно на юге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326880"/>
            <a:ext cx="7488360" cy="6088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часть грузопотока приходиться на водный транспорт. Развивается автомобильная сеть республики. К 2008 году планируется ликвидировать грунтовые разрывы на автодороге федерального значения «Колыма» (Якутск – Магадан). К 2015 году планируется связать дорогу республиканского значения «Вилюй» с Усть-Кутом Иркутской области и придать ей федеральный статус (Якутск – Мирный – Ленск – Усть-Кут – Тулун). В перспективе планируется выход автодороги «Амага» (Якутск – Амага – Усть-Мая) к порту Аян в Хабаровском крае. Также планируется строительство круглогодично действующих трасс «Яна» (Хандыга – Батагай – Усть-Куйга) и «Анабар» (Мирный – Удачный – Оленек – Юрюнг-Хая). В то же время автодорога федерального значения «Лена», которая связывает Якутск с общероссийской автомобильной сетью, требует очень серьезного рем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 воздушный транспорт. В республике действует 32 аэро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ется строительство Амуро-Якутской железной магистрали до Якутска. Действует участок Беркакит – Алдан – Том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92360" y="189000"/>
            <a:ext cx="223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Транспорт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80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81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050920" y="404640"/>
            <a:ext cx="550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Экологические проблем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3292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0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10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Республика Саха (Якутия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гион с благоприятным инвестиционным климатом. Это обусловлено рядом факторов, среди которых: выгодное географическое положение, близость рынков сбыта стран АТР; значительные запасы сырьевых (в первую очередь – алмазы, золото) и энергетических ресурсов; готовность органов государственной власти и органов местного самоуправления вести конструктивный диалог с инвесторами о форме их участия в развитии отраслей экономики и о гарантиях возврата капиталов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32000" y="33336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Заключ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26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27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20120" cy="44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260280"/>
            <a:ext cx="2087640" cy="194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2160720" cy="117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2360" y="234864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ь 3103,2 тыс. км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880" y="285192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района, 13 гор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280" y="342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— Якут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15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15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15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15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расположена в северо-восточной части Сибири. Якутия – самый крупный субъект РФ – самая крупная административно-территориальная единица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граничит на западе с Красноярским краем, на юго-западе – с Иркутской областью, на юге – с Амурской и Читинской областями, на юго-востоке – с Хабаровским краем, на востоке – с Магаданской областью и Чукотским автономным округом, на севере её составные рубежи образуют моря Лаптевых и Восточно-Сибирс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80000" y="404640"/>
            <a:ext cx="151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ГП</a:t>
            </a:r>
            <a:endParaRPr b="0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3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3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1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87280" y="2133720"/>
            <a:ext cx="6913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иродные условия и ресурс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70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71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89000"/>
            <a:ext cx="8135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е — Среднесибирское плоскогорье, на востоке — хреб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оянского, Черского расположенное между ними Яно-Оймяконское нагорье, на юге-Алданское нагорье и пограничный Становый хребет.В северной части Северо- Сибирская Яно-Индигирская и Колымскач низменности. На северо-востоке — Юкагирское плоскогор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306720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утия – один из наиболее речных (700 тыс. рек и речек) и озерных (свыше 800 тыс.) районов России. Общая протяжность всех ее рек составляет 2 млн. км, а их потенциальные гидроэнергоресурсы оцениваются почти в 700 млрд. кВт. Крупнейшие судоходные реки: Лена (4400 км), Вилюй (2650), Алдан (2273), Колыма (2129), Индигирка (1726), Олекма (1436), Анабар (939) и Яна (872 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6840" y="403920"/>
            <a:ext cx="64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мывается морями Лаптевых и Восточно-Сибир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вся континентальная территория Якутии представляет собой зону сплошной многовековой мерзлоты, которая только на крайнем юго-западе переходит в зону ее прерывистого распространения. Средняя мощность мерзлого слоя достигает 300-400 м., а в бассейне реки Вилюй – 1500м.: это максимальное промерзание горных пород на земном шаре. В горах Восточной Якутии 485 ледников общей площадью 413 кв. км. И с запасом пресной воды около 2 тыс. куб.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 резко континентальный, отличается продолжительностью зимним и коротким летним периодами. Максимальная амплитуда средних температур самого холодного месяца – января и самого теплого – июля составляет 70-750С. По абсолютной величине минимальной температуры (в восточных горных системах – котловинах, впадинах и других понижениях до минус 700С) и по ее суммарной продолжительности (от 6,5 до 9 месяцев в год) республика не имеет аналогов в Север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часть территории Якутии расположена в зоне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йги, которая к северу сменяется зонами лесотундры и тунд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вы преимущественно мерзлотно-таежные, дерново-лес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ювиально-луговые, горно-лесные и тундрово-глеевые. Л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урская лиственница, сосна, кедровый стланик, ель, пих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за и др.) занимают около 4/5 территории. В долинах ре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асах распространены луга. На побережье и вершинах гор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тарниковая, травянистая растительность и лишай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хранились песец, соболь, заяц-беляк, горностай, лисица, онда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 олень, изюбрь, кабарга, снежный ба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овая чайка, белый журавль-стерх и др. В морях — омуль, муксу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ма, чир. В реках — сиг, щука, оку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тр, налим, таймень, ленок. Олекминский заповедник, 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ский 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21:31Z</dcterms:created>
  <dc:creator>Лилия</dc:creator>
  <dc:description/>
  <dc:language>en-US</dc:language>
  <cp:lastModifiedBy>Лилия</cp:lastModifiedBy>
  <dcterms:modified xsi:type="dcterms:W3CDTF">2010-05-08T14:37:4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9000000000001023620</vt:lpwstr>
  </property>
</Properties>
</file>